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5BF-0470-4CC6-91F2-7571B4CE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ECE-5857-40F2-ACE4-EDC75E24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9C0-5397-46A2-97F2-531C3114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BC1-3FAC-4505-BF94-E17D162D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38F-91DB-4782-869C-AE9FFB13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A0F-C6A8-43CC-8842-CA479348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57F-2F6D-4199-ADDF-3EE724AA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A9E-8E79-4075-B1CE-7DF69A5B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1EE-73B6-4601-B436-D3294C58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E93-F6A6-4887-AED9-D9AE8F01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ADA-BFCC-4100-A634-B3E7570B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938-C4AF-48AE-8644-26DE1BA3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s://publicaffairs.llnl.gov/news/news_releases/2008/images/explosives_molecules_bi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30C1-82CA-4BEE-AC48-7A08E7BB55C2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ther-(general)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odium_ethoxide.pn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File:Chloroethane-skeletal.png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en.wikipedia.org/wiki/File:Sodium_ethoxide.png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en.wikipedia.org/wiki/File:Ethanol-2D-skeletal.svg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46c0a"/>
                </a:solidFill>
                <a:latin typeface="Calibri"/>
              </a:rPr>
              <a:t>Eth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46c0a"/>
                </a:solidFill>
                <a:latin typeface="Calibri"/>
              </a:rPr>
              <a:t>Carl Robinson and Michael 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ttp://www.elmhurst.edu/~chm/vchembook/images/522diethylether.GIF (Pictu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ttp://www.wikipedia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(Pictu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ttp://www.tutorvista.com/chemistry/uses-of-e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Hornblack, Joseph M. “Organic Chemisty” Brooks &amp; Cole 1998 Pg. 52, 354, 35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3640" y="274680"/>
            <a:ext cx="4824360" cy="12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 u="sng">
                <a:solidFill>
                  <a:srgbClr val="ffff00"/>
                </a:solidFill>
                <a:uFillTx/>
                <a:latin typeface="Calibri"/>
              </a:rPr>
              <a:t>Standard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upload.wikimedia.org/wikipedia/commons/thumb/5/51/Ether-%28general%29.png/150px-Ether-%28general%29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1800" y="2000160"/>
            <a:ext cx="4857480" cy="2428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2587320" y="4997520"/>
            <a:ext cx="4004280" cy="642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00"/>
                </a:solidFill>
                <a:latin typeface="Calibri"/>
              </a:rPr>
              <a:t>R – Alkyl Group</a:t>
            </a:r>
            <a:br>
              <a:rPr sz="1800"/>
            </a:br>
            <a:r>
              <a:rPr b="0" lang="en-CA" sz="1800" spc="-1" strike="noStrike">
                <a:solidFill>
                  <a:srgbClr val="ffff00"/>
                </a:solidFill>
                <a:latin typeface="Calibri"/>
              </a:rPr>
              <a:t>_’ – Substituent (substituted alkyl group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ffff00"/>
                </a:solidFill>
                <a:uFillTx/>
                <a:latin typeface="Calibri"/>
              </a:rPr>
              <a:t>Na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__  ______ 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1</a:t>
            </a:r>
            <a:r>
              <a:rPr b="0" lang="en-CA" sz="3200" spc="-1" strike="noStrike" baseline="30000">
                <a:solidFill>
                  <a:srgbClr val="ffff00"/>
                </a:solidFill>
                <a:latin typeface="Calibri"/>
              </a:rPr>
              <a:t>st</a:t>
            </a: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 is either the prefix of “Di-” or is the first alkyl group within the compound in alphabetical o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en-CA" sz="3200" spc="-1" strike="noStrike" baseline="30000">
                <a:solidFill>
                  <a:srgbClr val="ffff00"/>
                </a:solidFill>
                <a:latin typeface="Calibri"/>
              </a:rPr>
              <a:t>nd</a:t>
            </a: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 is followed by the main alkyl group or the second alkyl group within alphabetical or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All end with the word 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upload.wikimedia.org/wikipedia/commons/thumb/4/4a/Sodium_ethoxide.png/200px-Sodium_ethoxid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67120" y="1857240"/>
            <a:ext cx="1778040" cy="569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upload.wikimedia.org/wikipedia/commons/thumb/a/ac/Chloroethane-skeletal.png/100px-Chloroethane-skeletal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840" y="4214880"/>
            <a:ext cx="1409760" cy="50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upload.wikimedia.org/wikipedia/commons/thumb/4/4a/Sodium_ethoxide.png/200px-Sodium_ethoxide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357280" y="4214880"/>
            <a:ext cx="1779840" cy="498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upload.wikimedia.org/wikipedia/commons/thumb/8/82/Ethanol-2D-skeletal.svg/100px-Ethanol-2D-skeletal.svg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7280" y="1857240"/>
            <a:ext cx="1704960" cy="576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4"/>
          <p:cNvSpPr/>
          <p:nvPr/>
        </p:nvSpPr>
        <p:spPr>
          <a:xfrm>
            <a:off x="2079360" y="185724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+ 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5"/>
          <p:cNvSpPr/>
          <p:nvPr/>
        </p:nvSpPr>
        <p:spPr>
          <a:xfrm>
            <a:off x="6438240" y="1857240"/>
            <a:ext cx="10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—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3144960" y="185724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7"/>
          <p:cNvSpPr/>
          <p:nvPr/>
        </p:nvSpPr>
        <p:spPr>
          <a:xfrm>
            <a:off x="1857240" y="419112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8"/>
          <p:cNvSpPr/>
          <p:nvPr/>
        </p:nvSpPr>
        <p:spPr>
          <a:xfrm>
            <a:off x="4357800" y="4214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http://upload.wikimedia.org/wikipedia/commons/thumb/2/26/Diethyl-ether-2D-skeletal.png/200px-Diethyl-ether-2D-skeletal.png"/>
          <p:cNvPicPr/>
          <p:nvPr/>
        </p:nvPicPr>
        <p:blipFill>
          <a:blip r:embed="rId9"/>
          <a:stretch/>
        </p:blipFill>
        <p:spPr>
          <a:xfrm>
            <a:off x="6881760" y="4233960"/>
            <a:ext cx="1905120" cy="552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31"/>
          <p:cNvSpPr/>
          <p:nvPr/>
        </p:nvSpPr>
        <p:spPr>
          <a:xfrm>
            <a:off x="6289920" y="420228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2"/>
          <p:cNvSpPr/>
          <p:nvPr/>
        </p:nvSpPr>
        <p:spPr>
          <a:xfrm>
            <a:off x="290880" y="26431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Ethanol (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3"/>
          <p:cNvSpPr/>
          <p:nvPr/>
        </p:nvSpPr>
        <p:spPr>
          <a:xfrm>
            <a:off x="2014560" y="264312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Sodium (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4"/>
          <p:cNvSpPr/>
          <p:nvPr/>
        </p:nvSpPr>
        <p:spPr>
          <a:xfrm>
            <a:off x="3816360" y="264312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Sodium Ethoxide (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5"/>
          <p:cNvSpPr/>
          <p:nvPr/>
        </p:nvSpPr>
        <p:spPr>
          <a:xfrm>
            <a:off x="6220080" y="266220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Hydrogen gas (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6"/>
          <p:cNvSpPr/>
          <p:nvPr/>
        </p:nvSpPr>
        <p:spPr>
          <a:xfrm>
            <a:off x="294840" y="5286240"/>
            <a:ext cx="157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hloroethane (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7"/>
          <p:cNvSpPr/>
          <p:nvPr/>
        </p:nvSpPr>
        <p:spPr>
          <a:xfrm>
            <a:off x="2316240" y="528624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Sodium Ethoxide (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8"/>
          <p:cNvSpPr/>
          <p:nvPr/>
        </p:nvSpPr>
        <p:spPr>
          <a:xfrm>
            <a:off x="5121360" y="421488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9"/>
          <p:cNvSpPr/>
          <p:nvPr/>
        </p:nvSpPr>
        <p:spPr>
          <a:xfrm>
            <a:off x="4654800" y="528624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Sodium Chloride (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0"/>
          <p:cNvSpPr/>
          <p:nvPr/>
        </p:nvSpPr>
        <p:spPr>
          <a:xfrm>
            <a:off x="7164360" y="52862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Diethyl Ether (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6"/>
          <p:cNvSpPr/>
          <p:nvPr/>
        </p:nvSpPr>
        <p:spPr>
          <a:xfrm>
            <a:off x="5862960" y="185724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9"/>
          <p:cNvSpPr/>
          <p:nvPr/>
        </p:nvSpPr>
        <p:spPr>
          <a:xfrm>
            <a:off x="1857240" y="714240"/>
            <a:ext cx="46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illiamson Ether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0"/>
          <p:cNvSpPr/>
          <p:nvPr/>
        </p:nvSpPr>
        <p:spPr>
          <a:xfrm>
            <a:off x="307080" y="3643200"/>
            <a:ext cx="47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Note: This is occurs according to the SN2 re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Calibri"/>
              </a:rPr>
              <a:t>SN2 re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ShockwaveFlash1"/>
          <p:cNvGraphicFramePr/>
          <p:nvPr/>
        </p:nvGraphicFramePr>
        <p:xfrm>
          <a:off x="2484360" y="2060640"/>
          <a:ext cx="431964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4319640" cy="3889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Calibri"/>
              </a:rPr>
              <a:t>Williamson Ether Synthesis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Alkyl Halide- Halogen bonded to an alkyl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Nucleophile-a compound which donates a pair of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The nucleophile (lewis base) reacts which an alkyl hal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After the reaction the products are a salt and an 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3a1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Diethyle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://www.elmhurst.edu/~chm/vchembook/images/522diethylether.GIF"/>
          <p:cNvPicPr/>
          <p:nvPr/>
        </p:nvPicPr>
        <p:blipFill>
          <a:blip r:embed="rId1"/>
          <a:stretch/>
        </p:blipFill>
        <p:spPr>
          <a:xfrm>
            <a:off x="2714760" y="1785960"/>
            <a:ext cx="3714480" cy="3900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9"/>
          <p:cNvSpPr/>
          <p:nvPr/>
        </p:nvSpPr>
        <p:spPr>
          <a:xfrm>
            <a:off x="3510720" y="242892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Used as an anaesthes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3929040" y="1990800"/>
            <a:ext cx="1614600" cy="438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4786200" y="5286240"/>
            <a:ext cx="16146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Calibri"/>
              </a:rPr>
              <a:t>Nitrous Ox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webelements.com/_media/compounds/N/N2O1-10024972.jpg"/>
          <p:cNvPicPr/>
          <p:nvPr/>
        </p:nvPicPr>
        <p:blipFill>
          <a:blip r:embed="rId1"/>
          <a:stretch/>
        </p:blipFill>
        <p:spPr>
          <a:xfrm>
            <a:off x="2357280" y="207180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678600" y="5715000"/>
            <a:ext cx="7375680" cy="642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00"/>
                </a:solidFill>
                <a:latin typeface="Calibri"/>
              </a:rPr>
              <a:t>Otherwise known as laughing gas this compound is used as an anaesthesia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00"/>
                </a:solidFill>
                <a:latin typeface="Calibri"/>
              </a:rPr>
              <a:t>many medical fiel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072040" y="2143080"/>
            <a:ext cx="12859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Calibri"/>
              </a:rPr>
              <a:t>Other 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Anaesthe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Refriger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Sol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alibri"/>
              </a:rPr>
              <a:t>Engine sta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9:47:07Z</dcterms:created>
  <dc:creator>DRoss</dc:creator>
  <dc:description/>
  <dc:language>en-US</dc:language>
  <cp:lastModifiedBy>Administrator</cp:lastModifiedBy>
  <dcterms:modified xsi:type="dcterms:W3CDTF">2010-09-27T18:55:24Z</dcterms:modified>
  <cp:revision>22</cp:revision>
  <dc:subject/>
  <dc:title>Slide 1</dc:title>
</cp:coreProperties>
</file>